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6.wmf" ContentType="image/x-wmf"/>
  <Override PartName="/ppt/media/image29.wmf" ContentType="image/x-wmf"/>
  <Override PartName="/ppt/media/image31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6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65.png" ContentType="image/png"/>
  <Override PartName="/ppt/media/image22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0.wmf" ContentType="image/x-wmf"/>
  <Override PartName="/ppt/media/image47.wmf" ContentType="image/x-wmf"/>
  <Override PartName="/ppt/media/image30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740006-3B6E-498B-B2C7-08E231A9C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B25C07-E74A-4D65-8227-C08EBEB58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6C4C302-9A3B-4302-989D-746DD6B8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493671-E13D-4896-9D08-13411BB4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D534C3-E650-4E6A-8573-ABC85CA58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4ECA1A-EBE2-4F96-B76F-F4584A65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47E2BD-D9D2-41FE-95BD-F0E01148A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FAE7D1-B2D1-4E43-BAF9-FBEE63FAE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49A046-6F55-4C31-8A4F-02EA43ED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461F3A-94CE-43B8-A130-AA55E2C9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448D91-4AA2-43A2-B5AF-EC5E19FCC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550B6F-609F-45DE-958D-A406DBEB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C2F1FA1-2238-48EB-B36C-9B6C7F584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4695D3-47A9-4E71-B750-7E9F29C57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DA15-F43B-4FD8-9D1F-2E83DAA2E9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87E1-28AE-4D53-AB9B-4D471A8F8D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DD6A-02ED-4E8E-94AB-7DFF4F9C64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FDAB-C324-4C66-8561-F6FF483D3C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D476-DAA5-454B-A204-2A4E48C6F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86D2-EC78-405A-9EAE-D02E63BFEB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6C8F-2525-4061-8B25-CC437413F8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4325-AA03-48A8-9B6F-D41BEA8BF9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3342-F523-4FBB-91E2-C20118A26C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C12D-6203-4AA5-85E3-0E8FD38A64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7E92-670C-457E-A71F-298384A85B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6373-9C74-4C2C-A8C1-E8B44AEC97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4"/>
          </p:nvPr>
        </p:nvSpPr>
        <p:spPr>
          <a:xfrm>
            <a:off x="1238040" y="6400800"/>
            <a:ext cx="363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</p:txBody>
      </p:sp>
      <p:pic>
        <p:nvPicPr>
          <p:cNvPr id="45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0321824210_i.jpg"/>
          <p:cNvPicPr/>
          <p:nvPr/>
        </p:nvPicPr>
        <p:blipFill>
          <a:blip r:embed="rId4"/>
          <a:stretch/>
        </p:blipFill>
        <p:spPr>
          <a:xfrm>
            <a:off x="415800" y="115920"/>
            <a:ext cx="4929480" cy="616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1" marL="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EEE4-2910-4383-A61C-57D4AE86D00E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1" marL="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170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Pearson_Bound_White"/>
          <p:cNvPicPr/>
          <p:nvPr/>
        </p:nvPicPr>
        <p:blipFill>
          <a:blip r:embed="rId4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Always_Learning_Text_Purple_RGB"/>
          <p:cNvPicPr/>
          <p:nvPr/>
        </p:nvPicPr>
        <p:blipFill>
          <a:blip r:embed="rId5"/>
          <a:stretch/>
        </p:blipFill>
        <p:spPr>
          <a:xfrm>
            <a:off x="1366920" y="23320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2"/>
          <p:cNvSpPr/>
          <p:nvPr/>
        </p:nvSpPr>
        <p:spPr>
          <a:xfrm>
            <a:off x="0" y="119700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 rot="2779200">
            <a:off x="458640" y="266400"/>
            <a:ext cx="565200" cy="565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2"/>
          <p:cNvSpPr/>
          <p:nvPr/>
        </p:nvSpPr>
        <p:spPr>
          <a:xfrm>
            <a:off x="0" y="105264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2"/>
          <p:cNvSpPr/>
          <p:nvPr/>
        </p:nvSpPr>
        <p:spPr>
          <a:xfrm>
            <a:off x="0" y="105264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 rot="2779200">
            <a:off x="458640" y="266400"/>
            <a:ext cx="565200" cy="565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3"/>
          </p:nvPr>
        </p:nvSpPr>
        <p:spPr>
          <a:xfrm>
            <a:off x="1238040" y="6400800"/>
            <a:ext cx="363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5.wmf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wmf"/><Relationship Id="rId19" Type="http://schemas.openxmlformats.org/officeDocument/2006/relationships/slideLayout" Target="../slideLayouts/slideLayout6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slideLayout" Target="../slideLayouts/slideLayout6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6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6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00520" y="1484280"/>
            <a:ext cx="37810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d1348"/>
                </a:solidFill>
                <a:latin typeface="Arial"/>
              </a:rPr>
              <a:t>Section 3.4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16160" y="3212640"/>
            <a:ext cx="372924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olving Rational Equations</a:t>
            </a:r>
            <a:br>
              <a:rPr sz="2800"/>
            </a:b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and Radical Equations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224160" y="6518160"/>
            <a:ext cx="374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Arial"/>
              </a:rPr>
              <a:t>Copyright ©2013, 2009, 2006, 2005 Pearson Education, Inc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Object 2"/>
          <p:cNvGraphicFramePr/>
          <p:nvPr/>
        </p:nvGraphicFramePr>
        <p:xfrm>
          <a:off x="1424160" y="1341360"/>
          <a:ext cx="18856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341360"/>
                    <a:ext cx="1885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3"/>
          <p:cNvGraphicFramePr/>
          <p:nvPr/>
        </p:nvGraphicFramePr>
        <p:xfrm>
          <a:off x="907920" y="2863800"/>
          <a:ext cx="23940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7920" y="2863800"/>
                    <a:ext cx="2394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4"/>
          <p:cNvGraphicFramePr/>
          <p:nvPr/>
        </p:nvGraphicFramePr>
        <p:xfrm>
          <a:off x="1623960" y="3854520"/>
          <a:ext cx="167796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3960" y="3854520"/>
                    <a:ext cx="1677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5"/>
          <p:cNvGraphicFramePr/>
          <p:nvPr/>
        </p:nvGraphicFramePr>
        <p:xfrm>
          <a:off x="2125800" y="4572000"/>
          <a:ext cx="118260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5800" y="4572000"/>
                    <a:ext cx="1182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ectangle 11"/>
          <p:cNvSpPr/>
          <p:nvPr/>
        </p:nvSpPr>
        <p:spPr>
          <a:xfrm>
            <a:off x="5530680" y="2209680"/>
            <a:ext cx="371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3467160" y="586728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Rectangle 13"/>
          <p:cNvSpPr/>
          <p:nvPr/>
        </p:nvSpPr>
        <p:spPr>
          <a:xfrm>
            <a:off x="7932960" y="51958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5" name="Group 27"/>
          <p:cNvGrpSpPr/>
          <p:nvPr/>
        </p:nvGrpSpPr>
        <p:grpSpPr>
          <a:xfrm>
            <a:off x="5613480" y="3048120"/>
            <a:ext cx="2393280" cy="2666880"/>
            <a:chOff x="5613480" y="3048120"/>
            <a:chExt cx="2393280" cy="2666880"/>
          </a:xfrm>
        </p:grpSpPr>
        <p:grpSp>
          <p:nvGrpSpPr>
            <p:cNvPr id="546" name="Group 26"/>
            <p:cNvGrpSpPr/>
            <p:nvPr/>
          </p:nvGrpSpPr>
          <p:grpSpPr>
            <a:xfrm>
              <a:off x="5613480" y="3581280"/>
              <a:ext cx="2393280" cy="2133720"/>
              <a:chOff x="5613480" y="3581280"/>
              <a:chExt cx="2393280" cy="2133720"/>
            </a:xfrm>
          </p:grpSpPr>
          <p:sp>
            <p:nvSpPr>
              <p:cNvPr id="547" name="Line 16"/>
              <p:cNvSpPr/>
              <p:nvPr/>
            </p:nvSpPr>
            <p:spPr>
              <a:xfrm>
                <a:off x="5613480" y="3581280"/>
                <a:ext cx="2393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8" name="Line 17"/>
              <p:cNvSpPr/>
              <p:nvPr/>
            </p:nvSpPr>
            <p:spPr>
              <a:xfrm>
                <a:off x="7181640" y="3581280"/>
                <a:ext cx="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9" name="Line 18"/>
              <p:cNvSpPr/>
              <p:nvPr/>
            </p:nvSpPr>
            <p:spPr>
              <a:xfrm>
                <a:off x="7181640" y="42670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550" name="Object 11"/>
            <p:cNvGraphicFramePr/>
            <p:nvPr/>
          </p:nvGraphicFramePr>
          <p:xfrm>
            <a:off x="5764680" y="3048120"/>
            <a:ext cx="1829520" cy="44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1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764680" y="3048120"/>
                      <a:ext cx="18295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52" name="Object 6"/>
          <p:cNvGraphicFramePr/>
          <p:nvPr/>
        </p:nvGraphicFramePr>
        <p:xfrm>
          <a:off x="5365800" y="3619440"/>
          <a:ext cx="250344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5800" y="3619440"/>
                    <a:ext cx="2503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7"/>
          <p:cNvGraphicFramePr/>
          <p:nvPr/>
        </p:nvGraphicFramePr>
        <p:xfrm>
          <a:off x="5613480" y="4191120"/>
          <a:ext cx="1182600" cy="44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5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13480" y="4191120"/>
                    <a:ext cx="11826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8"/>
          <p:cNvGraphicFramePr/>
          <p:nvPr/>
        </p:nvGraphicFramePr>
        <p:xfrm>
          <a:off x="6108840" y="4724280"/>
          <a:ext cx="68724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7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08840" y="4724280"/>
                    <a:ext cx="687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9"/>
          <p:cNvGraphicFramePr/>
          <p:nvPr/>
        </p:nvGraphicFramePr>
        <p:xfrm>
          <a:off x="6576840" y="5334120"/>
          <a:ext cx="120996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9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76840" y="5334120"/>
                    <a:ext cx="1209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10"/>
          <p:cNvGraphicFramePr/>
          <p:nvPr/>
        </p:nvGraphicFramePr>
        <p:xfrm>
          <a:off x="2311560" y="5181480"/>
          <a:ext cx="83952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61" name="Object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11560" y="5181480"/>
                    <a:ext cx="839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2"/>
          <p:cNvGraphicFramePr/>
          <p:nvPr/>
        </p:nvGraphicFramePr>
        <p:xfrm>
          <a:off x="1424160" y="1341360"/>
          <a:ext cx="236664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341360"/>
                    <a:ext cx="23666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Rectangle 9"/>
          <p:cNvSpPr/>
          <p:nvPr/>
        </p:nvSpPr>
        <p:spPr>
          <a:xfrm>
            <a:off x="743040" y="1828800"/>
            <a:ext cx="8750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solate the radical on one s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2874960" y="2387520"/>
          <a:ext cx="22431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4960" y="2387520"/>
                    <a:ext cx="2243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4"/>
          <p:cNvGraphicFramePr/>
          <p:nvPr/>
        </p:nvGraphicFramePr>
        <p:xfrm>
          <a:off x="2476440" y="2908440"/>
          <a:ext cx="3081240" cy="67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6440" y="2908440"/>
                    <a:ext cx="30812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5"/>
          <p:cNvGraphicFramePr/>
          <p:nvPr/>
        </p:nvGraphicFramePr>
        <p:xfrm>
          <a:off x="3213000" y="3657600"/>
          <a:ext cx="323208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3000" y="3657600"/>
                    <a:ext cx="3232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6"/>
          <p:cNvGraphicFramePr/>
          <p:nvPr/>
        </p:nvGraphicFramePr>
        <p:xfrm>
          <a:off x="3832200" y="4254480"/>
          <a:ext cx="26128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2200" y="4254480"/>
                    <a:ext cx="2612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7"/>
          <p:cNvGraphicFramePr/>
          <p:nvPr/>
        </p:nvGraphicFramePr>
        <p:xfrm>
          <a:off x="3832200" y="4807080"/>
          <a:ext cx="272412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32200" y="4807080"/>
                    <a:ext cx="2724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8"/>
          <p:cNvGraphicFramePr/>
          <p:nvPr/>
        </p:nvGraphicFramePr>
        <p:xfrm>
          <a:off x="3254400" y="5403960"/>
          <a:ext cx="382428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54400" y="5403960"/>
                    <a:ext cx="38242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9"/>
          <p:cNvGraphicFramePr/>
          <p:nvPr/>
        </p:nvGraphicFramePr>
        <p:xfrm>
          <a:off x="3803760" y="6000840"/>
          <a:ext cx="271152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3760" y="6000840"/>
                    <a:ext cx="27115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sible solutions are 9 and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36600" y="5790960"/>
            <a:ext cx="866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9 checks but 2 does not, the only solution is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743040" y="1905120"/>
            <a:ext cx="255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3475440" y="476424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6" name="Object 2"/>
          <p:cNvGraphicFramePr/>
          <p:nvPr/>
        </p:nvGraphicFramePr>
        <p:xfrm>
          <a:off x="1120680" y="3733920"/>
          <a:ext cx="12528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3733920"/>
                    <a:ext cx="12528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3"/>
          <p:cNvGraphicFramePr/>
          <p:nvPr/>
        </p:nvGraphicFramePr>
        <p:xfrm>
          <a:off x="1582560" y="4336920"/>
          <a:ext cx="81144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2560" y="4336920"/>
                    <a:ext cx="811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4"/>
          <p:cNvGraphicFramePr/>
          <p:nvPr/>
        </p:nvGraphicFramePr>
        <p:xfrm>
          <a:off x="2131920" y="4876920"/>
          <a:ext cx="11844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1920" y="4876920"/>
                    <a:ext cx="1184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2" name="Group 34"/>
          <p:cNvGrpSpPr/>
          <p:nvPr/>
        </p:nvGrpSpPr>
        <p:grpSpPr>
          <a:xfrm>
            <a:off x="495360" y="2616120"/>
            <a:ext cx="2971080" cy="2641680"/>
            <a:chOff x="495360" y="2616120"/>
            <a:chExt cx="2971080" cy="2641680"/>
          </a:xfrm>
        </p:grpSpPr>
        <p:grpSp>
          <p:nvGrpSpPr>
            <p:cNvPr id="593" name="Group 22"/>
            <p:cNvGrpSpPr/>
            <p:nvPr/>
          </p:nvGrpSpPr>
          <p:grpSpPr>
            <a:xfrm>
              <a:off x="495360" y="3124080"/>
              <a:ext cx="2971080" cy="2133720"/>
              <a:chOff x="495360" y="3124080"/>
              <a:chExt cx="2971080" cy="2133720"/>
            </a:xfrm>
          </p:grpSpPr>
          <p:sp>
            <p:nvSpPr>
              <p:cNvPr id="594" name="Line 12"/>
              <p:cNvSpPr/>
              <p:nvPr/>
            </p:nvSpPr>
            <p:spPr>
              <a:xfrm>
                <a:off x="495360" y="3124080"/>
                <a:ext cx="297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Line 13"/>
              <p:cNvSpPr/>
              <p:nvPr/>
            </p:nvSpPr>
            <p:spPr>
              <a:xfrm>
                <a:off x="2723760" y="3124080"/>
                <a:ext cx="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>
                <a:off x="2723760" y="38098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597" name="Object 11"/>
            <p:cNvGraphicFramePr/>
            <p:nvPr/>
          </p:nvGraphicFramePr>
          <p:xfrm>
            <a:off x="969840" y="2616120"/>
            <a:ext cx="2242440" cy="444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8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69840" y="2616120"/>
                      <a:ext cx="22424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99" name="Object 5"/>
          <p:cNvGraphicFramePr/>
          <p:nvPr/>
        </p:nvGraphicFramePr>
        <p:xfrm>
          <a:off x="660240" y="3162240"/>
          <a:ext cx="273852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0240" y="3162240"/>
                    <a:ext cx="27385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Rectangle 23"/>
          <p:cNvSpPr/>
          <p:nvPr/>
        </p:nvSpPr>
        <p:spPr>
          <a:xfrm>
            <a:off x="8196840" y="472608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2" name="Object 6"/>
          <p:cNvGraphicFramePr/>
          <p:nvPr/>
        </p:nvGraphicFramePr>
        <p:xfrm>
          <a:off x="5956200" y="3708360"/>
          <a:ext cx="10861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56200" y="3708360"/>
                    <a:ext cx="1086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7"/>
          <p:cNvGraphicFramePr/>
          <p:nvPr/>
        </p:nvGraphicFramePr>
        <p:xfrm>
          <a:off x="6257880" y="4343400"/>
          <a:ext cx="7844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5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57880" y="4343400"/>
                    <a:ext cx="784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Object 8"/>
          <p:cNvGraphicFramePr/>
          <p:nvPr/>
        </p:nvGraphicFramePr>
        <p:xfrm>
          <a:off x="6864480" y="4851360"/>
          <a:ext cx="118260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7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64480" y="4851360"/>
                    <a:ext cx="1182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35"/>
          <p:cNvGrpSpPr/>
          <p:nvPr/>
        </p:nvGrpSpPr>
        <p:grpSpPr>
          <a:xfrm>
            <a:off x="5226120" y="2590920"/>
            <a:ext cx="2971080" cy="2640960"/>
            <a:chOff x="5226120" y="2590920"/>
            <a:chExt cx="2971080" cy="2640960"/>
          </a:xfrm>
        </p:grpSpPr>
        <p:grpSp>
          <p:nvGrpSpPr>
            <p:cNvPr id="609" name="Group 24"/>
            <p:cNvGrpSpPr/>
            <p:nvPr/>
          </p:nvGrpSpPr>
          <p:grpSpPr>
            <a:xfrm>
              <a:off x="5226120" y="3098880"/>
              <a:ext cx="2971080" cy="2133000"/>
              <a:chOff x="5226120" y="3098880"/>
              <a:chExt cx="2971080" cy="2133000"/>
            </a:xfrm>
          </p:grpSpPr>
          <p:sp>
            <p:nvSpPr>
              <p:cNvPr id="610" name="Line 25"/>
              <p:cNvSpPr/>
              <p:nvPr/>
            </p:nvSpPr>
            <p:spPr>
              <a:xfrm>
                <a:off x="5226120" y="3098880"/>
                <a:ext cx="297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1" name="Line 26"/>
              <p:cNvSpPr/>
              <p:nvPr/>
            </p:nvSpPr>
            <p:spPr>
              <a:xfrm>
                <a:off x="7454520" y="30988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2" name="Line 27"/>
              <p:cNvSpPr/>
              <p:nvPr/>
            </p:nvSpPr>
            <p:spPr>
              <a:xfrm>
                <a:off x="7454520" y="37843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613" name="Object 10"/>
            <p:cNvGraphicFramePr/>
            <p:nvPr/>
          </p:nvGraphicFramePr>
          <p:xfrm>
            <a:off x="5700600" y="2590920"/>
            <a:ext cx="2242800" cy="444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4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00600" y="2590920"/>
                      <a:ext cx="22428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15" name="Object 9"/>
          <p:cNvGraphicFramePr/>
          <p:nvPr/>
        </p:nvGraphicFramePr>
        <p:xfrm>
          <a:off x="5391000" y="3137040"/>
          <a:ext cx="2738520" cy="495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Object 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91000" y="3137040"/>
                    <a:ext cx="27385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Rectangle 33"/>
          <p:cNvSpPr/>
          <p:nvPr/>
        </p:nvSpPr>
        <p:spPr>
          <a:xfrm>
            <a:off x="5143680" y="1879560"/>
            <a:ext cx="255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94920" y="1308240"/>
            <a:ext cx="9109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Object 2"/>
          <p:cNvGraphicFramePr/>
          <p:nvPr/>
        </p:nvGraphicFramePr>
        <p:xfrm>
          <a:off x="1496880" y="1309680"/>
          <a:ext cx="30816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1309680"/>
                    <a:ext cx="30816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4"/>
          <p:cNvGraphicFramePr/>
          <p:nvPr/>
        </p:nvGraphicFramePr>
        <p:xfrm>
          <a:off x="1857240" y="1844640"/>
          <a:ext cx="39211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844640"/>
                    <a:ext cx="39211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5"/>
          <p:cNvGraphicFramePr/>
          <p:nvPr/>
        </p:nvGraphicFramePr>
        <p:xfrm>
          <a:off x="2585880" y="2614680"/>
          <a:ext cx="42656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5880" y="2614680"/>
                    <a:ext cx="4265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6"/>
          <p:cNvGraphicFramePr/>
          <p:nvPr/>
        </p:nvGraphicFramePr>
        <p:xfrm>
          <a:off x="2571840" y="3156120"/>
          <a:ext cx="370188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3156120"/>
                    <a:ext cx="37018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7"/>
          <p:cNvGraphicFramePr/>
          <p:nvPr/>
        </p:nvGraphicFramePr>
        <p:xfrm>
          <a:off x="2695680" y="3695760"/>
          <a:ext cx="250488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95680" y="3695760"/>
                    <a:ext cx="25048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8"/>
          <p:cNvGraphicFramePr/>
          <p:nvPr/>
        </p:nvGraphicFramePr>
        <p:xfrm>
          <a:off x="3137040" y="4237200"/>
          <a:ext cx="1663560" cy="44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7040" y="4237200"/>
                    <a:ext cx="16635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9"/>
          <p:cNvGraphicFramePr/>
          <p:nvPr/>
        </p:nvGraphicFramePr>
        <p:xfrm>
          <a:off x="2971800" y="4778280"/>
          <a:ext cx="2241720" cy="67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4778280"/>
                    <a:ext cx="224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10"/>
          <p:cNvGraphicFramePr/>
          <p:nvPr/>
        </p:nvGraphicFramePr>
        <p:xfrm>
          <a:off x="3137040" y="5548320"/>
          <a:ext cx="138888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7040" y="5548320"/>
                    <a:ext cx="13888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11"/>
          <p:cNvGraphicFramePr/>
          <p:nvPr/>
        </p:nvGraphicFramePr>
        <p:xfrm>
          <a:off x="3152880" y="5950080"/>
          <a:ext cx="85248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7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52880" y="5950080"/>
                    <a:ext cx="8524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ssible solution, 4, on a graphing calc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2920" y="5662080"/>
            <a:ext cx="9345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, the number 4 checks. It is th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29" descr="Picture 2"/>
          <p:cNvPicPr/>
          <p:nvPr/>
        </p:nvPicPr>
        <p:blipFill>
          <a:blip r:embed="rId1"/>
          <a:stretch/>
        </p:blipFill>
        <p:spPr>
          <a:xfrm>
            <a:off x="2360520" y="1916280"/>
            <a:ext cx="52992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5440" y="119664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1240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tional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1240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dical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Rational Equation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containing rational expressions are called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ational eq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uch equations requires multiplying both sides by the least common denominator (LCD)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ear the equation of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Object 2"/>
          <p:cNvGraphicFramePr/>
          <p:nvPr/>
        </p:nvGraphicFramePr>
        <p:xfrm>
          <a:off x="0" y="0"/>
          <a:ext cx="99072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72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3"/>
          <p:cNvGraphicFramePr/>
          <p:nvPr/>
        </p:nvGraphicFramePr>
        <p:xfrm>
          <a:off x="1639800" y="1268280"/>
          <a:ext cx="27385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9800" y="1268280"/>
                    <a:ext cx="2738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4"/>
          <p:cNvGraphicFramePr/>
          <p:nvPr/>
        </p:nvGraphicFramePr>
        <p:xfrm>
          <a:off x="2063880" y="2895480"/>
          <a:ext cx="3646440" cy="92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63880" y="2895480"/>
                    <a:ext cx="36464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5"/>
          <p:cNvGraphicFramePr/>
          <p:nvPr/>
        </p:nvGraphicFramePr>
        <p:xfrm>
          <a:off x="1884240" y="4051440"/>
          <a:ext cx="33991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84240" y="4051440"/>
                    <a:ext cx="3399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1801800" y="5194440"/>
          <a:ext cx="34815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1800" y="5194440"/>
                    <a:ext cx="3481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7"/>
          <p:cNvGraphicFramePr/>
          <p:nvPr/>
        </p:nvGraphicFramePr>
        <p:xfrm>
          <a:off x="2228760" y="6032520"/>
          <a:ext cx="306864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28760" y="6032520"/>
                    <a:ext cx="30686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8"/>
          <p:cNvGraphicFramePr/>
          <p:nvPr/>
        </p:nvGraphicFramePr>
        <p:xfrm>
          <a:off x="6837480" y="4267080"/>
          <a:ext cx="17888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37480" y="4267080"/>
                    <a:ext cx="17888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9"/>
          <p:cNvGraphicFramePr/>
          <p:nvPr/>
        </p:nvGraphicFramePr>
        <p:xfrm>
          <a:off x="7594560" y="5029200"/>
          <a:ext cx="123840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4560" y="5029200"/>
                    <a:ext cx="1238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10"/>
          <p:cNvGraphicFramePr/>
          <p:nvPr/>
        </p:nvGraphicFramePr>
        <p:xfrm>
          <a:off x="7786800" y="5791320"/>
          <a:ext cx="839520" cy="30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86800" y="5791320"/>
                    <a:ext cx="8395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Rectangle 16"/>
          <p:cNvSpPr/>
          <p:nvPr/>
        </p:nvSpPr>
        <p:spPr>
          <a:xfrm>
            <a:off x="344520" y="2205000"/>
            <a:ext cx="825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both sides by the LCD 6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94920" y="1267920"/>
            <a:ext cx="9109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sible solution is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2"/>
          <p:cNvGraphicFramePr/>
          <p:nvPr/>
        </p:nvGraphicFramePr>
        <p:xfrm>
          <a:off x="3687840" y="3886200"/>
          <a:ext cx="11001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7840" y="3886200"/>
                    <a:ext cx="1100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"/>
          <p:cNvGraphicFramePr/>
          <p:nvPr/>
        </p:nvGraphicFramePr>
        <p:xfrm>
          <a:off x="4127400" y="4997520"/>
          <a:ext cx="14716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7400" y="4997520"/>
                    <a:ext cx="1471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Rectangle 18"/>
          <p:cNvSpPr/>
          <p:nvPr/>
        </p:nvSpPr>
        <p:spPr>
          <a:xfrm>
            <a:off x="6537240" y="5950080"/>
            <a:ext cx="31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5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5786640" y="5384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706400" y="1600200"/>
            <a:ext cx="4484160" cy="4343400"/>
            <a:chOff x="1706400" y="1600200"/>
            <a:chExt cx="4484160" cy="4343400"/>
          </a:xfrm>
        </p:grpSpPr>
        <p:sp>
          <p:nvSpPr>
            <p:cNvPr id="475" name="Rectangle 7"/>
            <p:cNvSpPr/>
            <p:nvPr/>
          </p:nvSpPr>
          <p:spPr>
            <a:xfrm>
              <a:off x="1706400" y="1752480"/>
              <a:ext cx="1485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ff"/>
                  </a:solidFill>
                  <a:latin typeface="Arial"/>
                </a:rPr>
                <a:t>Check</a:t>
              </a:r>
              <a:r>
                <a:rPr b="0" lang="en-US" sz="2800" spc="-1" strike="noStrike">
                  <a:solidFill>
                    <a:srgbClr val="3333ff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6" name="Group 24"/>
            <p:cNvGrpSpPr/>
            <p:nvPr/>
          </p:nvGrpSpPr>
          <p:grpSpPr>
            <a:xfrm>
              <a:off x="3054600" y="2590920"/>
              <a:ext cx="3135960" cy="3352680"/>
              <a:chOff x="3054600" y="2590920"/>
              <a:chExt cx="3135960" cy="3352680"/>
            </a:xfrm>
          </p:grpSpPr>
          <p:sp>
            <p:nvSpPr>
              <p:cNvPr id="477" name="Line 14"/>
              <p:cNvSpPr/>
              <p:nvPr/>
            </p:nvSpPr>
            <p:spPr>
              <a:xfrm>
                <a:off x="3054600" y="2590920"/>
                <a:ext cx="313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Line 15"/>
              <p:cNvSpPr/>
              <p:nvPr/>
            </p:nvSpPr>
            <p:spPr>
              <a:xfrm>
                <a:off x="5200200" y="259092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Line 16"/>
              <p:cNvSpPr/>
              <p:nvPr/>
            </p:nvSpPr>
            <p:spPr>
              <a:xfrm>
                <a:off x="5200200" y="3581280"/>
                <a:ext cx="0" cy="236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480" name="Object 6"/>
            <p:cNvGraphicFramePr/>
            <p:nvPr/>
          </p:nvGraphicFramePr>
          <p:xfrm>
            <a:off x="3054600" y="1600200"/>
            <a:ext cx="2613240" cy="83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1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54600" y="1600200"/>
                      <a:ext cx="261324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82" name="Object 4"/>
          <p:cNvGraphicFramePr/>
          <p:nvPr/>
        </p:nvGraphicFramePr>
        <p:xfrm>
          <a:off x="2765520" y="2895480"/>
          <a:ext cx="309564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5520" y="2895480"/>
                    <a:ext cx="3095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5"/>
          <p:cNvGraphicFramePr/>
          <p:nvPr/>
        </p:nvGraphicFramePr>
        <p:xfrm>
          <a:off x="4815000" y="5486400"/>
          <a:ext cx="7984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15000" y="5486400"/>
                    <a:ext cx="798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Object 2"/>
          <p:cNvGraphicFramePr/>
          <p:nvPr/>
        </p:nvGraphicFramePr>
        <p:xfrm>
          <a:off x="2435400" y="1295280"/>
          <a:ext cx="218736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1295280"/>
                    <a:ext cx="21873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Rectangle 7"/>
          <p:cNvSpPr/>
          <p:nvPr/>
        </p:nvSpPr>
        <p:spPr>
          <a:xfrm>
            <a:off x="344520" y="2492280"/>
            <a:ext cx="83376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both sides by the LC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2585880" y="3429000"/>
          <a:ext cx="44452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5880" y="3429000"/>
                    <a:ext cx="44452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4"/>
          <p:cNvGraphicFramePr/>
          <p:nvPr/>
        </p:nvGraphicFramePr>
        <p:xfrm>
          <a:off x="4237200" y="4673520"/>
          <a:ext cx="10047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7200" y="4673520"/>
                    <a:ext cx="1004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5"/>
          <p:cNvGraphicFramePr/>
          <p:nvPr/>
        </p:nvGraphicFramePr>
        <p:xfrm>
          <a:off x="3384720" y="5575320"/>
          <a:ext cx="288900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4720" y="5575320"/>
                    <a:ext cx="28890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sible solutions are –3 and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–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611320" y="1904760"/>
            <a:ext cx="42944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88880" y="5445000"/>
            <a:ext cx="41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hecks, so it is a solu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3508560" y="464832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26"/>
          <p:cNvGrpSpPr/>
          <p:nvPr/>
        </p:nvGrpSpPr>
        <p:grpSpPr>
          <a:xfrm>
            <a:off x="1238400" y="2476440"/>
            <a:ext cx="2392920" cy="2857680"/>
            <a:chOff x="1238400" y="2476440"/>
            <a:chExt cx="2392920" cy="2857680"/>
          </a:xfrm>
        </p:grpSpPr>
        <p:grpSp>
          <p:nvGrpSpPr>
            <p:cNvPr id="503" name="Group 25"/>
            <p:cNvGrpSpPr/>
            <p:nvPr/>
          </p:nvGrpSpPr>
          <p:grpSpPr>
            <a:xfrm>
              <a:off x="1238400" y="3505320"/>
              <a:ext cx="2392920" cy="1828800"/>
              <a:chOff x="1238400" y="3505320"/>
              <a:chExt cx="2392920" cy="1828800"/>
            </a:xfrm>
          </p:grpSpPr>
          <p:sp>
            <p:nvSpPr>
              <p:cNvPr id="504" name="Line 10"/>
              <p:cNvSpPr/>
              <p:nvPr/>
            </p:nvSpPr>
            <p:spPr>
              <a:xfrm>
                <a:off x="1238400" y="3505320"/>
                <a:ext cx="239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Line 11"/>
              <p:cNvSpPr/>
              <p:nvPr/>
            </p:nvSpPr>
            <p:spPr>
              <a:xfrm>
                <a:off x="2393640" y="3505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6" name="Line 12"/>
              <p:cNvSpPr/>
              <p:nvPr/>
            </p:nvSpPr>
            <p:spPr>
              <a:xfrm>
                <a:off x="2393640" y="4495680"/>
                <a:ext cx="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507" name="Object 7"/>
            <p:cNvGraphicFramePr/>
            <p:nvPr/>
          </p:nvGraphicFramePr>
          <p:xfrm>
            <a:off x="1320840" y="2476440"/>
            <a:ext cx="2104560" cy="87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0840" y="2476440"/>
                      <a:ext cx="210456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09" name="Object 2"/>
          <p:cNvGraphicFramePr/>
          <p:nvPr/>
        </p:nvGraphicFramePr>
        <p:xfrm>
          <a:off x="949320" y="3505320"/>
          <a:ext cx="295740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9320" y="3505320"/>
                    <a:ext cx="29574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3"/>
          <p:cNvGraphicFramePr/>
          <p:nvPr/>
        </p:nvGraphicFramePr>
        <p:xfrm>
          <a:off x="1486080" y="4495680"/>
          <a:ext cx="178884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86080" y="4495680"/>
                    <a:ext cx="17888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17"/>
          <p:cNvSpPr/>
          <p:nvPr/>
        </p:nvSpPr>
        <p:spPr>
          <a:xfrm>
            <a:off x="4959360" y="5516640"/>
            <a:ext cx="49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by 0 is not defined, so 3 is not a solu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7605360" y="461016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5" name="Group 28"/>
          <p:cNvGrpSpPr/>
          <p:nvPr/>
        </p:nvGrpSpPr>
        <p:grpSpPr>
          <a:xfrm>
            <a:off x="5530680" y="2438280"/>
            <a:ext cx="2393280" cy="2857680"/>
            <a:chOff x="5530680" y="2438280"/>
            <a:chExt cx="2393280" cy="2857680"/>
          </a:xfrm>
        </p:grpSpPr>
        <p:grpSp>
          <p:nvGrpSpPr>
            <p:cNvPr id="516" name="Group 27"/>
            <p:cNvGrpSpPr/>
            <p:nvPr/>
          </p:nvGrpSpPr>
          <p:grpSpPr>
            <a:xfrm>
              <a:off x="5530680" y="3467160"/>
              <a:ext cx="2393280" cy="1828800"/>
              <a:chOff x="5530680" y="3467160"/>
              <a:chExt cx="2393280" cy="1828800"/>
            </a:xfrm>
          </p:grpSpPr>
          <p:sp>
            <p:nvSpPr>
              <p:cNvPr id="517" name="Line 18"/>
              <p:cNvSpPr/>
              <p:nvPr/>
            </p:nvSpPr>
            <p:spPr>
              <a:xfrm>
                <a:off x="5530680" y="3467160"/>
                <a:ext cx="2393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Line 19"/>
              <p:cNvSpPr/>
              <p:nvPr/>
            </p:nvSpPr>
            <p:spPr>
              <a:xfrm>
                <a:off x="6685920" y="346716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Line 20"/>
              <p:cNvSpPr/>
              <p:nvPr/>
            </p:nvSpPr>
            <p:spPr>
              <a:xfrm>
                <a:off x="6685920" y="445788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aphicFrame>
          <p:nvGraphicFramePr>
            <p:cNvPr id="520" name="Object 6"/>
            <p:cNvGraphicFramePr/>
            <p:nvPr/>
          </p:nvGraphicFramePr>
          <p:xfrm>
            <a:off x="5612760" y="2438280"/>
            <a:ext cx="2105280" cy="87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1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12760" y="2438280"/>
                      <a:ext cx="2105280" cy="8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2" name="Object 4"/>
          <p:cNvGraphicFramePr/>
          <p:nvPr/>
        </p:nvGraphicFramePr>
        <p:xfrm>
          <a:off x="5442120" y="3492360"/>
          <a:ext cx="2558880" cy="92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3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42120" y="3492360"/>
                    <a:ext cx="255888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5"/>
          <p:cNvGraphicFramePr/>
          <p:nvPr/>
        </p:nvGraphicFramePr>
        <p:xfrm>
          <a:off x="5999040" y="4495680"/>
          <a:ext cx="137484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9040" y="4495680"/>
                    <a:ext cx="13748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Radical Equation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adical eq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quation in which variables appear in one or more radicands.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inciple of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positive integ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,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Object 2"/>
          <p:cNvGraphicFramePr/>
          <p:nvPr/>
        </p:nvGraphicFramePr>
        <p:xfrm>
          <a:off x="3322800" y="2679840"/>
          <a:ext cx="321912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2800" y="2679840"/>
                    <a:ext cx="32191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Solving Radical Equation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adical equation we must first isolate the radical on one side of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apply the Principle of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radical equation has two radical terms on one side, we isolate one of them and then use the principle of powers. If, after doing so, a radical terms remains, we repeat these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50Z</dcterms:created>
  <dc:creator>rosimerr</dc:creator>
  <dc:description>Built by: www.mediasterling.com</dc:description>
  <dc:language>en-US</dc:language>
  <cp:lastModifiedBy>Denise Heban</cp:lastModifiedBy>
  <dcterms:modified xsi:type="dcterms:W3CDTF">2011-12-04T11:46:10Z</dcterms:modified>
  <cp:revision>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